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77E7-2607-4976-A17F-7202E845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AA3-387E-41F0-A0F5-FA24214C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049-DC4B-4AA2-A0D6-B5081BABF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FBF4-1DED-4301-9D46-CCFDAA41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55B-0D24-41E0-B094-60A90135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F4A-039F-43A1-A026-D7B5605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B30-D88A-43C2-A627-FE8C0B46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394-FE6B-4150-BAE0-E51A436E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31E-F472-43FE-A88A-49496B1E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144-DC1E-425C-B09D-1773BA4A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0DB-EFD4-4AB7-B93B-28760BE7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A69-3FD2-47B2-A997-064C1805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64DD-724C-4677-9B2B-A769654C6A51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-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nformationszeital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mputer als universelles Instr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ssen, Bildung und aktuelle Nachrich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ommunikation mit Fre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und Entertai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ls Medium vs. klassisches T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ein „Sendeprogramm“ mit Terminbindu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schiedene Blickwinkel auf Informatio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hezu beliebige Interaktion mögli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Fra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Anregun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–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 Ihre Aufmerksamkei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6-24T15:51:44Z</dcterms:modified>
  <cp:revision>140</cp:revision>
  <dc:subject/>
  <dc:title>Folie 1</dc:title>
</cp:coreProperties>
</file>